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AA60-7DFF-4C8C-8E54-339315702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F789-DB89-4AA8-8444-F728B2B8A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8566-10A4-430E-B831-868717150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7217-0811-4B70-B7F8-98D4BF60E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DAD6-C421-4214-8541-F99DE253E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4951-D3A5-461A-907E-A09439DCC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A2C7-0D83-40A7-AF1B-08322C66B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B428-FDCF-402C-BE1E-DC35A9A9C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6F80-78E4-491F-9B48-BDD3B48F1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08BF-4E68-4135-83A0-2AAC0226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707B-3CD8-4A7A-9322-3F000F494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8596-AEE1-4C2A-A7A0-04F36728F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6FD57-EE74-4097-ADF8-405D245301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771480" y="-457200"/>
            <a:ext cx="10688760" cy="77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8T15:07:11Z</dcterms:created>
  <dc:creator>Julie</dc:creator>
  <dc:description/>
  <dc:language>en-US</dc:language>
  <cp:lastModifiedBy>Julie</cp:lastModifiedBy>
  <dcterms:modified xsi:type="dcterms:W3CDTF">2008-04-28T15:07:29Z</dcterms:modified>
  <cp:revision>1</cp:revision>
  <dc:subject/>
  <dc:title>Slide 1</dc:title>
</cp:coreProperties>
</file>